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F10-64B6-4239-89FC-1CE185CB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E72-45D5-43B6-930E-A8096587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DC2-FB3D-4137-A5E2-C8D9989E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5F0-BCB4-4597-8045-309F4000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589-E0A1-462B-AF0D-0E53DEEE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E93-4B60-4CB2-A490-7E0ABC2A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B40-8338-4C02-BC72-7660ADBD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9D6-7557-4356-9B33-C947666C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271-96D8-4DD0-846C-002B1AA9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8EA-D637-4787-A13B-EB7B6DD3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B78-7D34-450D-8472-D55F5599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412-D086-4A8B-8258-46466549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A46A-D1B5-4757-9AAF-BB766FF7D01A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agffgaadw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1:24:03Z</dcterms:created>
  <dc:creator>Chris Schelble User</dc:creator>
  <dc:description/>
  <dc:language>en-US</dc:language>
  <cp:lastModifiedBy>Chris Schelble User</cp:lastModifiedBy>
  <dcterms:modified xsi:type="dcterms:W3CDTF">2010-04-18T21:24:32Z</dcterms:modified>
  <cp:revision>1</cp:revision>
  <dc:subject/>
  <dc:title>gagffgaadwes</dc:title>
</cp:coreProperties>
</file>